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8.gif" ContentType="image/gif"/>
  <Override PartName="/ppt/media/image25.png" ContentType="image/png"/>
  <Override PartName="/ppt/media/image65.wmf" ContentType="image/x-wmf"/>
  <Override PartName="/ppt/media/image31.png" ContentType="image/png"/>
  <Override PartName="/ppt/media/image24.png" ContentType="image/png"/>
  <Override PartName="/ppt/media/image67.gif" ContentType="image/gif"/>
  <Override PartName="/ppt/media/image23.png" ContentType="image/png"/>
  <Override PartName="/ppt/media/image63.wmf" ContentType="image/x-wmf"/>
  <Override PartName="/ppt/media/image66.wmf" ContentType="image/x-wmf"/>
  <Override PartName="/ppt/media/image26.png" ContentType="image/png"/>
  <Override PartName="/ppt/media/image60.gif" ContentType="image/gif"/>
  <Override PartName="/ppt/media/image62.wmf" ContentType="image/x-wmf"/>
  <Override PartName="/ppt/media/image22.png" ContentType="image/png"/>
  <Override PartName="/ppt/media/image57.wmf" ContentType="image/x-wmf"/>
  <Override PartName="/ppt/media/image21.png" ContentType="image/png"/>
  <Override PartName="/ppt/media/image59.wmf" ContentType="image/x-wmf"/>
  <Override PartName="/ppt/media/image20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64.jpeg" ContentType="image/jpe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E81-C6C6-415F-A755-A0F332B7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FB4-C9F5-45E6-BF6C-5728FC0B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65F-5AEE-4A18-815D-8530E4B3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CDC-287E-4127-A1BB-2EC3F411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EA7C-CF51-491A-A2B5-D11447CE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C9DF-263B-44BB-A9E1-CC232070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B5B-58E4-448E-B1BE-5A7E64F0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8BE8-2DA0-459D-9036-E863EF0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D122-B24C-41B7-A51D-71F861AA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C7B2-854A-4FCC-A6C4-5AAFECC2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5B7B-DC6C-49C3-902D-472532E4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7C6-289E-48FC-87BD-A475BE44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88FD-CEA2-4F17-B13E-C20021B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5973-F0EC-43E5-B2B2-EDA5D67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6D10-CF52-452E-87F6-B70F93A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2CC0-020C-4103-8033-4E025959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9931-843D-4941-A3FB-B6CC4C53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C78A-7696-43B8-A266-649D43E7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4D5E-CBA6-44AF-A323-02A14973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9B30-80E8-46A6-81F1-670A48E9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7F02-FEF8-4012-8001-8CE59DC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C2CB-E348-4E82-9DB6-A70C1A4C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838-7C3B-4513-AF08-3377CF2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B7F1-8CC6-45A0-932F-BDC8513A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74DA-2B3F-471C-8122-6405F943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B2C8-DA16-4A88-8A3E-3ABF9AF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AE4E-B37B-4D10-BE60-6D9083C7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AE0B-2E4A-4648-9CE4-B75FD67F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7821-18DD-4AE0-9A41-F8837BDF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C926-5DA2-47C1-ACF5-E83F7444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D74-9241-449B-BCAB-2E18BAD3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098-0530-4136-B864-6129B4DB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FC5-8249-44E4-B8FA-13E5F84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F72-6358-492D-AE30-261F64C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A14-AA4A-44A1-89E4-6279C60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A2A-F768-44CB-980A-82A812F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25.xml"/><Relationship Id="rId52" Type="http://schemas.openxmlformats.org/officeDocument/2006/relationships/slideLayout" Target="../slideLayouts/slideLayout26.xml"/><Relationship Id="rId53" Type="http://schemas.openxmlformats.org/officeDocument/2006/relationships/slideLayout" Target="../slideLayouts/slideLayout27.xml"/><Relationship Id="rId54" Type="http://schemas.openxmlformats.org/officeDocument/2006/relationships/slideLayout" Target="../slideLayouts/slideLayout28.xml"/><Relationship Id="rId55" Type="http://schemas.openxmlformats.org/officeDocument/2006/relationships/slideLayout" Target="../slideLayouts/slideLayout29.xml"/><Relationship Id="rId56" Type="http://schemas.openxmlformats.org/officeDocument/2006/relationships/slideLayout" Target="../slideLayouts/slideLayout30.xml"/><Relationship Id="rId57" Type="http://schemas.openxmlformats.org/officeDocument/2006/relationships/slideLayout" Target="../slideLayouts/slideLayout31.xml"/><Relationship Id="rId58" Type="http://schemas.openxmlformats.org/officeDocument/2006/relationships/slideLayout" Target="../slideLayouts/slideLayout32.xml"/><Relationship Id="rId59" Type="http://schemas.openxmlformats.org/officeDocument/2006/relationships/slideLayout" Target="../slideLayouts/slideLayout33.xml"/><Relationship Id="rId60" Type="http://schemas.openxmlformats.org/officeDocument/2006/relationships/slideLayout" Target="../slideLayouts/slideLayout34.xml"/><Relationship Id="rId61" Type="http://schemas.openxmlformats.org/officeDocument/2006/relationships/slideLayout" Target="../slideLayouts/slideLayout35.xml"/><Relationship Id="rId6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594"/>
            </a:gs>
            <a:gs pos="100000">
              <a:srgbClr val="568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8F95-2A2F-49D5-88C8-3F10A03999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594"/>
            </a:gs>
            <a:gs pos="100000">
              <a:srgbClr val="568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DE2B-2C07-472C-99A1-062727FFDE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594"/>
            </a:gs>
            <a:gs pos="100000">
              <a:srgbClr val="568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420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23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426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429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432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435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438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441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444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447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450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453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456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59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62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5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68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471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474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477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480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483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486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489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492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495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498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501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505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508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512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515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519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522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525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529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532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537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541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544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547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550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553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556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559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562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567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570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573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8F7E-2D6D-42CE-945F-869438A63D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1"/>
    <p:sldLayoutId id="2147483676" r:id="rId52"/>
    <p:sldLayoutId id="2147483677" r:id="rId53"/>
    <p:sldLayoutId id="2147483678" r:id="rId54"/>
    <p:sldLayoutId id="2147483679" r:id="rId55"/>
    <p:sldLayoutId id="2147483680" r:id="rId56"/>
    <p:sldLayoutId id="2147483681" r:id="rId57"/>
    <p:sldLayoutId id="2147483682" r:id="rId58"/>
    <p:sldLayoutId id="2147483683" r:id="rId59"/>
    <p:sldLayoutId id="2147483684" r:id="rId60"/>
    <p:sldLayoutId id="2147483685" r:id="rId61"/>
    <p:sldLayoutId id="2147483686" r:id="rId6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80880" y="20160"/>
            <a:ext cx="71164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lane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33520" y="2895480"/>
            <a:ext cx="711648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4e9ef"/>
                </a:solidFill>
                <a:latin typeface="Verdana"/>
              </a:rPr>
              <a:t>Ri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8" name="Picture 4" descr="C:\Documents and Settings\LaboR\Local Settings\Temporary Internet Files\Content.IE5\SL8TR2JL\MC900037210[1].wmf"/>
          <p:cNvPicPr/>
          <p:nvPr/>
        </p:nvPicPr>
        <p:blipFill>
          <a:blip r:embed="rId1"/>
          <a:stretch/>
        </p:blipFill>
        <p:spPr>
          <a:xfrm flipH="1" rot="10800000">
            <a:off x="6713640" y="3176640"/>
            <a:ext cx="46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ut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28240" y="192708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on is Pluto's only known satelli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0" name="Picture 4" descr="C:\Documents and Settings\LaboR\Local Settings\Temporary Internet Files\Content.IE5\WT2SXBTW\MC900083165[2].wmf"/>
          <p:cNvPicPr/>
          <p:nvPr/>
        </p:nvPicPr>
        <p:blipFill>
          <a:blip r:embed="rId1"/>
          <a:stretch/>
        </p:blipFill>
        <p:spPr>
          <a:xfrm flipH="1">
            <a:off x="6588000" y="4952880"/>
            <a:ext cx="193680" cy="1810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C:\Documents and Settings\LaboR\Local Settings\Temporary Internet Files\Content.IE5\0JK8O7V1\MM900219074[1].gif"/>
          <p:cNvPicPr/>
          <p:nvPr/>
        </p:nvPicPr>
        <p:blipFill>
          <a:blip r:embed="rId2"/>
          <a:stretch/>
        </p:blipFill>
        <p:spPr>
          <a:xfrm>
            <a:off x="6346800" y="3954600"/>
            <a:ext cx="1501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71800" y="533520"/>
            <a:ext cx="7448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closest planet to the s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eighth largest plane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rcury is the small pla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2" name="Picture 5" descr="C:\Documents and Settings\LaboR\Local Settings\Temporary Internet Files\Content.IE5\WT2SXBTW\MC900037211[1].wmf"/>
          <p:cNvPicPr/>
          <p:nvPr/>
        </p:nvPicPr>
        <p:blipFill>
          <a:blip r:embed="rId1"/>
          <a:stretch/>
        </p:blipFill>
        <p:spPr>
          <a:xfrm>
            <a:off x="6172200" y="2514600"/>
            <a:ext cx="1649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enu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nus is the same size as the eart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 is cold on one si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 is second closest planet to the Su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planetfacts.org/planet-venus-facts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6" name="Picture 5" descr="C:\Documents and Settings\LaboR\Local Settings\Temporary Internet Files\Content.IE5\B284JJ33\MC900083159[1].wmf"/>
          <p:cNvPicPr/>
          <p:nvPr/>
        </p:nvPicPr>
        <p:blipFill>
          <a:blip r:embed="rId1"/>
          <a:stretch/>
        </p:blipFill>
        <p:spPr>
          <a:xfrm>
            <a:off x="5410080" y="2133720"/>
            <a:ext cx="3013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rs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37720" y="167652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ientists have just found that water is on M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9" name="Picture 4" descr="C:\Documents and Settings\LaboR\Local Settings\Temporary Internet Files\Content.IE5\0JK8O7V1\MC900037210[1].wmf"/>
          <p:cNvPicPr/>
          <p:nvPr/>
        </p:nvPicPr>
        <p:blipFill>
          <a:blip r:embed="rId1"/>
          <a:stretch/>
        </p:blipFill>
        <p:spPr>
          <a:xfrm>
            <a:off x="6629400" y="76212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arth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home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 is the same size as Venu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2" name="Picture 4" descr="j0189205"/>
          <p:cNvPicPr/>
          <p:nvPr/>
        </p:nvPicPr>
        <p:blipFill>
          <a:blip r:embed="rId1"/>
          <a:stretch/>
        </p:blipFill>
        <p:spPr>
          <a:xfrm>
            <a:off x="6172200" y="1752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C:\Documents and Settings\LaboR\Local Settings\Temporary Internet Files\Content.IE5\WT2SXBTW\MC900438213[1].wmf"/>
          <p:cNvPicPr/>
          <p:nvPr/>
        </p:nvPicPr>
        <p:blipFill>
          <a:blip r:embed="rId2"/>
          <a:stretch/>
        </p:blipFill>
        <p:spPr>
          <a:xfrm>
            <a:off x="5562720" y="152280"/>
            <a:ext cx="342900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ranus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6" name="Picture 4" descr="C:\Documents and Settings\LaboR\Local Settings\Temporary Internet Files\Content.IE5\HMETLRGX\MM900219076[1].gif"/>
          <p:cNvPicPr/>
          <p:nvPr/>
        </p:nvPicPr>
        <p:blipFill>
          <a:blip r:embed="rId1"/>
          <a:stretch/>
        </p:blipFill>
        <p:spPr>
          <a:xfrm>
            <a:off x="5614920" y="1523880"/>
            <a:ext cx="1873440" cy="1898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C:\Documents and Settings\LaboR\Local Settings\Temporary Internet Files\Content.IE5\B284JJ33\MC900083169[1].wmf"/>
          <p:cNvPicPr/>
          <p:nvPr/>
        </p:nvPicPr>
        <p:blipFill>
          <a:blip r:embed="rId2"/>
          <a:stretch/>
        </p:blipFill>
        <p:spPr>
          <a:xfrm>
            <a:off x="6470640" y="2286000"/>
            <a:ext cx="810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tur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9" name="Picture 5" descr="j0350399"/>
          <p:cNvPicPr/>
          <p:nvPr/>
        </p:nvPicPr>
        <p:blipFill>
          <a:blip r:embed="rId1"/>
          <a:stretch/>
        </p:blipFill>
        <p:spPr>
          <a:xfrm>
            <a:off x="990720" y="685800"/>
            <a:ext cx="1805040" cy="1128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aturn is the second larges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1" name="Picture 4" descr="C:\Documents and Settings\LaboR\Local Settings\Temporary Internet Files\Content.IE5\HMETLRGX\MC900339842[1].wmf"/>
          <p:cNvPicPr/>
          <p:nvPr/>
        </p:nvPicPr>
        <p:blipFill>
          <a:blip r:embed="rId2"/>
          <a:stretch/>
        </p:blipFill>
        <p:spPr>
          <a:xfrm>
            <a:off x="1066680" y="2286000"/>
            <a:ext cx="23259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pi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urop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nymed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llist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4" name="Picture 4" descr="C:\Documents and Settings\LaboR\Local Settings\Temporary Internet Files\Content.IE5\HMETLRGX\MP900401287[1].jpg"/>
          <p:cNvPicPr/>
          <p:nvPr/>
        </p:nvPicPr>
        <p:blipFill>
          <a:blip r:embed="rId1"/>
          <a:stretch/>
        </p:blipFill>
        <p:spPr>
          <a:xfrm>
            <a:off x="4459320" y="26496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ptune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ptune is the largest pla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7" name="Picture 4" descr="C:\Documents and Settings\LaboR\Local Settings\Temporary Internet Files\Content.IE5\B284JJ33\MC900037208[1].wmf"/>
          <p:cNvPicPr/>
          <p:nvPr/>
        </p:nvPicPr>
        <p:blipFill>
          <a:blip r:embed="rId1"/>
          <a:stretch/>
        </p:blipFill>
        <p:spPr>
          <a:xfrm>
            <a:off x="5506920" y="251136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22:50Z</dcterms:created>
  <dc:creator>Rachel B. Bunin</dc:creator>
  <dc:description/>
  <dc:language>en-US</dc:language>
  <cp:lastModifiedBy>Ricardo Labo</cp:lastModifiedBy>
  <cp:lastPrinted>2013-10-30T13:01:11Z</cp:lastPrinted>
  <dcterms:modified xsi:type="dcterms:W3CDTF">2013-10-30T13:04:36Z</dcterms:modified>
  <cp:revision>11</cp:revision>
  <dc:subject/>
  <dc:title>The Planets</dc:title>
</cp:coreProperties>
</file>